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dt" idx="5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 type="ftr" idx="6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 type="sldNum" idx="6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5858-D97D-408B-95F8-129FBCCC10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2E61-A9EB-4A1A-A435-2D16D890B10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BD83-1951-409E-A28D-A1ED69F6C3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ed from the Federal Government’s ILR scale by the American Council of Foreign Languages, the ACTFL proficiency scale has 4 main levels (Novice, Intermediate, Advanced and Superior. The first three levels are each subdivided into 3 sub-levels (Low, Mid and High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1715-8C89-4891-A4D2-A032301F39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221D-C7CE-4F0A-932B-0BB77EFB0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0A2F-0E51-460B-A8F3-DCFA1B8D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E7CA8D-7DBA-4428-8E6E-A50A34E1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09896D-7814-4896-A811-58FEF440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B2C2B3-0441-42E2-AB10-15BC1B9A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1C8C8C-B92D-4299-A2D4-3C53D7FF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38D4E7-778F-4BF1-8D69-97AEF979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8B3A1B-7CB0-4ECC-B0F0-691F97F0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583B2C-AFA3-49CE-B706-71F61B7A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72788E-A21E-4CD9-B8B3-800293DE8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B2F056-EDB3-4F6A-AD23-874470C72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5DCEC0-B7A9-458D-88FD-DC12ED904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7EDA-5CA6-4C43-A11F-432AF720A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F360F7-3811-4DC6-B3DE-692B17B1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A111AD-FC11-4676-AF7B-F281950B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90E979-6049-4370-87E4-4BD19AE9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3EAA80-B8CC-49FD-A460-3157ECDF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E25C86-E2E8-43EA-A4EC-389A4208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189778-6880-4BFE-BAE5-612DD29B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24C433-EC47-4CE2-98FB-9C91D57F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CCA1A0-6601-4BB1-B92C-B7CDCB3A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E7A526-A1B1-4AEA-844C-330E79E2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234374-AAC5-4D41-9860-FDF7BFD03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76FE-2FBA-4567-BDC0-76DE26902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653C15-54E6-4F12-B5E7-467AFEF44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412D86F-17F7-41BF-ABFE-19C72DA8B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B444589-6DA6-4693-BDBF-E00A0421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C10C66A-E0EA-40F2-AA82-9B53652C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58E0395-E627-4E28-A432-9F7D28FD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67A3777-F2C3-404D-BC77-FCDBA988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B770596-C818-4E57-AE4A-343AB3DB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7A04EE4-92A9-48C5-94F2-93650A86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F7099AE-D8E6-45D1-BF05-F9EE637E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ADBC122-9EA7-4CB8-AFAD-707E948E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FE61-7037-4E03-AFC2-73050A966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7A1C3AA-6057-4682-BC3E-6F582B24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41A99C0-3D80-407A-A1B6-3FFC2BFA6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D653632-0781-4182-979F-A3A78D4FC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8F3738-9A4D-41F7-AB89-214FBDAE9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DA3A37-BE03-4A57-8289-132FF063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2F7BDE-8B71-42E3-9B99-91861847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CF02A9-8168-4938-9455-F4AFF72C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B49E33-1274-4D0C-9836-F91BC08F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AF7485-D363-4A12-AC31-19433DB9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EE41ED-AE6C-41C5-AB72-67346163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C2D0-1EF5-4464-B9D2-47CA849B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70AB03-4388-4BC8-BD8D-8BDC5898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B88AA7-8C2B-414D-80D8-1D7D8F43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5197B7-8471-48CA-8B5A-B93D22E2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2CBE88-8007-4D8A-A56F-9AAED76C9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FB5273-1E8B-4033-AA94-8441C4483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587007C-0903-4918-90A4-98209BECC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E8879E3-E80E-46ED-A4B8-DA8A467A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14BCDFA-883A-4F73-B042-D09B2778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65146E2-6A43-4CEB-9A7F-8E8D9F12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0E7243E-7AAB-43E5-87FF-B1AAAA5C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7DEE-EC42-4038-8C7D-B6EB1D94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5BE0029-12EF-40B2-81AA-E64269D5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7B3C06F-D1AF-4601-B8C5-EFFE90A9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18C6B7A-8849-4DDA-95D9-943C9FD9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1612E13-DAEC-488B-AFD2-9AF37E24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5AC8459-EDC2-4DC9-97F5-6A6B587B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F8011D6-4AEC-4F87-ACFC-1FD835964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194BAE7-6BAB-4A4F-B1C4-FF3E2E51F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1562A2F-C303-41B8-ACB6-9391112C1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A475D3E-5794-48EA-BD6F-55AD063A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4EA29CA-EB62-44D9-8C07-E4403DFD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8A96-3764-41CD-BCEC-B473B48F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78EBA37-26C5-4D24-B9D5-8DAF5D14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0BA8611-A418-43C0-92FC-9F451691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1910CB0-16DA-4757-A886-095B6DC6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3E18DAF-4336-497E-8388-FEDACC35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8FAE9D7-BAC0-443A-AD8A-6270E8A2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C732A89-54B1-4F33-944A-DACD0F6E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750BA6F-078F-459E-88E1-F676D1EB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BD0A8F3-4687-4333-B7E0-E536F53F6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74CD443-7247-4FD9-8186-9989542C3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E5E0520-C5BE-43F6-9F81-6FF9D0BD4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FDEB-8110-4120-962D-FB631ED7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05F8321-6211-4456-8A21-9A9C850B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ED0D895-5253-45E9-B1DF-169A41FE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C1F84BE-4402-4484-AF27-D5B01A31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BEDFAE4-A57D-4E2E-866B-E280AFFF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9799BC6-35DD-4049-9031-5D8AC907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91179D6-66B7-4FA8-938E-F41F3A52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949FA76-88A6-4A21-AB35-F588FFAB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88427A3-560D-4F67-880F-1F599409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8DF7A44-BAE1-4F93-93F6-EEFC6795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F5628A8-5100-48A0-94A6-B0D83B863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BA02-DF7C-484F-945E-66D5CD91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9B41130-7310-496A-BAC1-21F267AA2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215E9FB-3AB5-4FB3-8611-BFD906826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730F89E-3CAE-4226-9AFE-1CBBE1A8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0833B45-709D-45B6-B665-1B8611B3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95BC412-8B7E-4604-9450-FDCD0677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721C859-35A0-4C3C-A605-47394FAD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1ABC7B7-120D-4EB2-BE28-AD81EF94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1603F98-36B3-432A-A5ED-C21D310A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B0C88BE-7AB2-4E99-B025-6795DF19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58CF4D5-D4C2-4D8A-86E7-39EE07AA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7080-8B55-4315-AB2E-51110A9D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1855309-0B94-4390-84DC-180F3E86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4CFAB55-D86E-4689-B3A8-614053D73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9EFD845-E94A-4E52-B3EA-39FC8613A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4A9CA4D-FAEF-4D3D-A9D3-98FFFA542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18CA5FD-EA2D-4F52-9D7D-B7B30E65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691CCB3-60E4-4E7E-B753-0796A73A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AFDD67F-E84F-4D95-8688-70943248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8778544-03AA-4905-8AB9-AACE8894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2CFAC9A-0588-4B6B-A87C-993C75D0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631E809-B06E-40FD-B9AE-2169E613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3A42-3656-4BA2-A6F2-AFEC9D95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0110-3D07-4902-BE0D-BEDC588D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553543C-DFF3-4963-A84C-0C0F369D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B93126D-6D4A-430A-9DEE-4B087EBD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EDA5075-F5FA-4F70-B175-CB3E76B4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0511243-C2D2-436E-9F0B-B4168E53C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F13688C-2BFD-4B06-8994-D5D3183A3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93918B0-7E98-40EB-9D77-B0CEE339D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5656694-2620-4716-9EB3-98CC8CD0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D692C9F-0F39-426B-8301-65638C07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B2CAC54-4B3C-4A24-9E1F-9B5933B8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CB2998C-1045-4F8D-B878-5AE45E1C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E22B-49C0-46A9-84B6-7E96C83A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507E67D-7179-4594-A8CD-125E65CD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E29D76B-442C-4E89-83D5-364E4ACB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D5B7D73-2FDF-4659-B8D9-3F034A91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BEF0D3D-F47A-4D0A-BB71-4D98C30F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5F28935-62F1-4CFB-AC16-6A69569D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7325CB6-F1B9-4CAB-81BA-D8538B9BA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F6144C2-D35A-444A-B9C5-B3C3FF4DD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DB71B9D-846D-4D1E-BAEB-E0BF08CC5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EB0C2DE-36D6-4B7E-831F-2FCD78DE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DB9138E-F7BE-4403-8192-83D2E60F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B6B0-DF81-4932-9B4F-D10CDB95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D59771F-5263-49BF-9295-31BFEB8B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024DAD0-B606-4F4E-92BB-ED85ABA6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63656E9-8756-4E65-A830-61EEF752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6810329-20E2-4B14-B776-345989BF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797AF58-7929-4A9D-8E4E-7CBF8B95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FF9485E-78FD-4A8A-9D99-1E97112F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F067B9A-FB9E-497C-9B48-0CDD6D7C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89AEA85-6F4F-47AC-ABB3-FC3F01E88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9F0A746-A827-4641-9577-DE28B6816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4A58000-9BC7-4495-9D41-5A3B892A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AB67-455C-4A32-BDBB-3B9A8D3F8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50CDBCC-8685-4A63-BDF4-B035F6EF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39204E6-9858-440C-BE4C-3073D78D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11A9BFD-5981-4D20-A6CE-2C85A40F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92257F3-9CBF-498E-A7D8-35CDD827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CA5F51E-6F0E-4A1F-8116-7EFEF79E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D9A7513-BECD-426A-AF56-6B877003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FF46698-1E9E-4443-B1B9-CD9A802E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8727B03-9D2C-4DF7-875A-EA4FE8DB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90A8344-3E07-40CE-9262-0949FBD3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EAF346D-98B8-4350-A21F-6B298666F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AC74-435D-4745-A006-DC6DECFE8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FDA6796-04BD-42AD-B3C6-79C11B15F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D67BF-A861-4A4D-9E79-6BE5113A9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EC226-322F-46FC-AF3B-4BE4E88A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DB27D-BC7E-4E4A-9216-C2F8966D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B690F-16F5-416A-8AB7-DB595551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8371F-CDEF-4F19-B45D-EF4DD804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A4AD-B40E-40EC-8D0F-58DC554D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3EBCF-0559-4E60-899E-56EFBC23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86019-759E-4C89-B81B-3AFD3B63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4BC6A-A6CF-48E3-A084-B2020653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CC53F-BD19-4449-AC23-CC1B612C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DBEBB-A640-46DD-9E54-DAE9289E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BDF22-0CD4-47D8-9778-FAFF959B0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4FD14-CCA7-43AB-BB53-8B609755F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53A49-457F-44A6-A284-C129922C4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CB387-237B-493C-825D-E6FAC335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EF9C2-22A5-40CB-9B16-D245D9C6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C654-0ADF-4EBC-A3BA-87267477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E3DA4-F2D3-43CD-9E75-1C7E22E4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AAAA4-F90D-46E4-BED4-637600F7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3303A-1E4E-4764-B9A5-103BE37F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9B8F5-DD8C-4169-8C03-E6667660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DC918-A91A-40C3-99FF-32D0CCE4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E0CD8-97A4-4618-8E0E-CB1B484A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AFB4E-6B4A-434D-B624-8C447AF5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0C8FC-18A3-4A33-979E-C377A3A0E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60C3B-A6E5-4B4E-A342-1B7B44046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2389E-8CE6-4320-9BF1-A3AE0B2E7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BE5B-B793-4153-92E9-DA2B1027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531B1-D25F-45C2-B5DC-AAF9B6EB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01D66-76F4-4348-8B0C-5FE26AC4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50F6C-2BDD-46F2-9D9D-A7913874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4033C-66C6-4A71-911F-3D22AC39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16372-DBE0-4134-9E76-CF2A3901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F6987-6B6C-45B6-8372-6B15D5B5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5C5A8-CF0C-464A-A26B-91D4D2FB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423CC-38CA-4559-B0F5-B1FF293E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338F4-2C41-4405-9912-6538B33F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859FE-D359-4E34-B847-0B0F4B995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7FA5-681C-4E7E-A775-3352E77C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8714D-06FD-46CD-95D9-8828A2378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572F3-9DF0-4B1E-BB65-C92D42EB9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C7FF2-8383-4AF0-9F5E-EB85BF3D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E794B-7C7D-4D44-866D-B2BFEF2A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5BDF4-A1A0-40E8-863B-C2299F2F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45AE4-562C-4C42-A69A-468AA6DC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71CFD-230A-438D-B159-B886C1BD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8B1A9-A4BE-4B58-9ADE-412B24EF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E3B55-2852-45A0-BD1C-1F767CF6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33007-A1D1-4D96-8B60-7015A2AA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0C5A-AAE4-40DB-82EB-2CF75744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168EF-CE89-40BE-B9E3-F2629857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7D452-681C-42E1-9AF8-4E7BEB1B1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3BCDA-815D-43A2-B2A9-CEE64628A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211C3B-6C36-4C46-84BF-F8053C0C06C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379F4E-7AC9-4569-99EB-E48396B4EBD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593521-29DB-48B8-85EE-BC3B784328B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222F3F-EBFA-4DA2-B429-AF2188DEF89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D34651-9C15-4F32-90F4-415D64A892A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6B003F-7ADE-4636-BAD7-69963BC1C53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B1A8EC-08AC-4E2B-BA6A-2D61A94E73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759B-00D5-43C9-9B87-D13C5780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D9E199-4F51-43D6-B3F6-CE8105A631A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7E682A-61EA-4F5F-8285-610247E4FE4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3C864C-CA28-467E-9822-E5AAE965794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797E54-C821-49B2-8978-9D994B123DC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C69038-EFF6-4DEF-B7BC-06933A9C9D7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63062F-3EAB-4E53-972C-8E2221D9F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A73575-6D0F-40DF-9C1D-7494B34D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07893C-9115-48CA-B34F-1139A61D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840ECB-DE06-4B0B-80A8-E0E3DF37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0FDAEA-0FA5-43A1-BC41-ACCB6184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C67E-E6FC-4102-A65D-B51B2F36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650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53DA8D-C3A9-452D-9015-5676FD42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35AFE9-A6E8-45BF-BDA4-8AE75C33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A776D4-401C-49B0-B938-5DD32528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41D402-B7BD-41B3-805D-435F91B2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4255200"/>
            <a:ext cx="650880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F562FC-6C6E-45B7-B33C-4DEDB619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792600" y="220932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3792600" y="4255200"/>
            <a:ext cx="317628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1E3B63-00D3-424D-9E35-13D4BFE6C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265788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858560" y="220932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265788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4858560" y="4255200"/>
            <a:ext cx="2095560" cy="186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4A826A-3EF1-42F2-9430-977A66B0E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BF9677-B4AB-4FDC-985F-3D7CEB058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EBA1DD-6FB4-43B0-8DD0-C31146C7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378722-A119-4060-B38E-4A69D172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D94C-CDCC-47C6-9C36-E4D167AA8480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D1D2-9A4B-4551-89D2-3CF96FD8357A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6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91E9-9EC2-4E7B-9A7C-E6505CC2091F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7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28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4EEA-4E5A-4BC3-87B0-7B9A6AB42D6E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9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7A72-B82D-4502-8E70-09D8C4C15B55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0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1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ED93-6E57-4D90-BBFC-75C4033A0A96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2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5F06-CE6E-4CA0-BCEF-082EF2348B07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3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4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2B31-6997-4441-B0B1-F1F9DF252FD0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5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7D17-F65D-42B7-AE99-A37F6BA6304D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6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7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486D-EEDE-4169-947F-425BA4592758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6"/>
          <p:cNvSpPr/>
          <p:nvPr/>
        </p:nvSpPr>
        <p:spPr>
          <a:xfrm>
            <a:off x="8148600" y="268200"/>
            <a:ext cx="719280" cy="567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38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275B-4A2E-4C22-86D8-644B2C75432B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39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40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4A48-64E3-4E78-936A-E1E082C53B1A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6"/>
          <p:cNvSpPr/>
          <p:nvPr/>
        </p:nvSpPr>
        <p:spPr>
          <a:xfrm>
            <a:off x="8148600" y="268200"/>
            <a:ext cx="719280" cy="567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41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792A-6A33-4DBD-A0F0-D81AB3421B9C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2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43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279F-FB46-4D8B-B865-FDD7667F6BC3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6"/>
          <p:cNvSpPr/>
          <p:nvPr/>
        </p:nvSpPr>
        <p:spPr>
          <a:xfrm>
            <a:off x="4746600" y="268200"/>
            <a:ext cx="4114800" cy="567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44"/>
          </p:nvPr>
        </p:nvSpPr>
        <p:spPr>
          <a:xfrm>
            <a:off x="162000" y="612468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5331-FB8C-47D0-B4F8-A5E556272179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45"/>
          </p:nvPr>
        </p:nvSpPr>
        <p:spPr>
          <a:xfrm>
            <a:off x="174240" y="6356520"/>
            <a:ext cx="386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46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8FD9-92DE-4145-9223-0B4F6D68C151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6"/>
          <p:cNvSpPr/>
          <p:nvPr/>
        </p:nvSpPr>
        <p:spPr>
          <a:xfrm>
            <a:off x="7216920" y="268200"/>
            <a:ext cx="1639800" cy="3638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7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E20A-C881-495F-B240-DD8305E6EE9E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48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49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9895-690D-4988-891B-9FEF42C3C564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6"/>
          <p:cNvSpPr/>
          <p:nvPr/>
        </p:nvSpPr>
        <p:spPr>
          <a:xfrm>
            <a:off x="8136000" y="268200"/>
            <a:ext cx="720720" cy="3638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dt" idx="50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D2FC-E347-4B24-B981-C1FFE803574C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ftr" idx="51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 type="sldNum" idx="52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E985-0C81-4FFB-91DD-4A172A71B01F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6"/>
          <p:cNvSpPr/>
          <p:nvPr/>
        </p:nvSpPr>
        <p:spPr>
          <a:xfrm>
            <a:off x="7211880" y="268200"/>
            <a:ext cx="1646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dt" idx="53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5298-CB7A-44A1-871E-63289C809C10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 type="ftr" idx="54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 type="sldNum" idx="55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916A-E1A2-4ADC-8181-D94810372D45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3187800" y="268200"/>
            <a:ext cx="5668920" cy="39006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268200" y="268200"/>
            <a:ext cx="184320" cy="38862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276360" y="390600"/>
            <a:ext cx="550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D4A9-3116-4CF0-9447-D1F52A7FCF32}" type="datetime"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219480" y="6356520"/>
            <a:ext cx="4735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25624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F314-76A5-4270-8F25-A6BDEB28E5F7}" type="slidenum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6"/>
          <p:cNvSpPr/>
          <p:nvPr/>
        </p:nvSpPr>
        <p:spPr>
          <a:xfrm>
            <a:off x="8148600" y="268200"/>
            <a:ext cx="719280" cy="567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56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EC64-1171-40DB-8AD0-6F615091847C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57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58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25E3-9287-45A3-9639-823A2CCEA970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7211880" y="268200"/>
            <a:ext cx="1646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7211520" y="6356520"/>
            <a:ext cx="175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A433-26BC-4043-8F5E-6611F76ECF01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B2D9-7B53-4567-94C6-338673285F15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3187800" y="268200"/>
            <a:ext cx="5668920" cy="25606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268200" y="268200"/>
            <a:ext cx="184320" cy="38862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3276360" y="390600"/>
            <a:ext cx="5499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120E-57AB-4863-AE52-4E747738BF21}" type="datetime"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213000" y="6356520"/>
            <a:ext cx="4735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826560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7C68-FD8D-4F9A-85E5-83E6D0B4AE91}" type="slidenum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270000" y="268200"/>
            <a:ext cx="1646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7211520" y="6356520"/>
            <a:ext cx="175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B871-3871-4BA9-A24A-674FC57B67AB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2178000" y="6356520"/>
            <a:ext cx="4927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331920" y="360360"/>
            <a:ext cx="50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60C1-18AE-4C62-A1BD-2B39912E4801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7759800" y="268200"/>
            <a:ext cx="1098360" cy="63500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5562720" y="6356520"/>
            <a:ext cx="1622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C805-9681-4C51-988B-0A200A6A56D5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174240" y="635652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357C-F3F5-40B8-B9B2-9F005773B553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270000" y="4773600"/>
            <a:ext cx="2971800" cy="1844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9"/>
          </p:nvPr>
        </p:nvSpPr>
        <p:spPr>
          <a:xfrm>
            <a:off x="351000" y="6105600"/>
            <a:ext cx="50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CF49-906A-455A-A4C6-6741084FEDB9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0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EA3A-74AA-4394-B106-3EB2B8DFF5C7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1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2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2CCD-8702-4E94-B6E3-78768D26D791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6"/>
          <p:cNvSpPr/>
          <p:nvPr/>
        </p:nvSpPr>
        <p:spPr>
          <a:xfrm>
            <a:off x="8148600" y="268200"/>
            <a:ext cx="719280" cy="16462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1" marL="4572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3" marL="914400" indent="-228600">
              <a:spcBef>
                <a:spcPts val="1800"/>
              </a:spcBef>
              <a:buClr>
                <a:srgbClr val="4d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3"/>
          </p:nvPr>
        </p:nvSpPr>
        <p:spPr>
          <a:xfrm>
            <a:off x="7199280" y="6356520"/>
            <a:ext cx="1752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85858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32B1-68C9-4C5A-B9A5-EF3452836C59}" type="datetime">
              <a:rPr b="1" lang="en-US" sz="1100" spc="-1" strike="noStrike">
                <a:solidFill>
                  <a:srgbClr val="858585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4"/>
          </p:nvPr>
        </p:nvSpPr>
        <p:spPr>
          <a:xfrm>
            <a:off x="174600" y="6356520"/>
            <a:ext cx="600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5"/>
          </p:nvPr>
        </p:nvSpPr>
        <p:spPr>
          <a:xfrm>
            <a:off x="8256240" y="360360"/>
            <a:ext cx="50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C429-95F4-44EC-B8C1-28043221935D}" type="slidenum"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200040" y="3979440"/>
            <a:ext cx="5459400" cy="10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Century Gothic"/>
              </a:rPr>
              <a:t>Assessing Foreign Languages</a:t>
            </a:r>
            <a:endParaRPr b="0" lang="en-US" sz="22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3200040" y="4946760"/>
            <a:ext cx="5459400" cy="62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The National Standardized ACTFL Oral Proficiency Interview   or   </a:t>
            </a:r>
            <a:r>
              <a:rPr b="1" lang="en-US" sz="2200" spc="-1" strike="noStrike">
                <a:solidFill>
                  <a:srgbClr val="333333"/>
                </a:solidFill>
                <a:latin typeface="Century Gothic"/>
              </a:rPr>
              <a:t>O P I</a:t>
            </a:r>
            <a:endParaRPr b="0" lang="en-US" sz="22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48" name="Title 1"/>
          <p:cNvSpPr/>
          <p:nvPr/>
        </p:nvSpPr>
        <p:spPr>
          <a:xfrm>
            <a:off x="3276720" y="4610160"/>
            <a:ext cx="545940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9" name="Subtitle 2"/>
          <p:cNvSpPr/>
          <p:nvPr/>
        </p:nvSpPr>
        <p:spPr>
          <a:xfrm>
            <a:off x="-965160" y="1943280"/>
            <a:ext cx="545940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entury Gothic"/>
              </a:rPr>
              <a:t>Mireille Le Breton, Ph. D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entury Gothic"/>
              </a:rPr>
              <a:t>Nazareth College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entury Gothic"/>
              </a:rPr>
              <a:t>NYSAFLT CONVENTION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entury Gothic"/>
              </a:rPr>
              <a:t>Saturday, March 8th, 2014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0" name="Slide Number Placeholder 1"/>
          <p:cNvSpPr/>
          <p:nvPr/>
        </p:nvSpPr>
        <p:spPr>
          <a:xfrm>
            <a:off x="825660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83BF-CB56-4C6D-A10F-56DB69C29436}" type="slidenum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     </a:t>
            </a: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5 / </a:t>
            </a: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Official ACTFL OPI ratings are recommended for the      </a:t>
            </a: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awarding of college credit by the American Council</a:t>
            </a: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on Education (ACE) Credit Recommendation Service .</a:t>
            </a:r>
            <a:endParaRPr b="0" lang="en-US" sz="1600" spc="-1" strike="noStrike">
              <a:solidFill>
                <a:srgbClr val="333333"/>
              </a:solidFill>
              <a:latin typeface="Century Gothic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     </a:t>
            </a: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6/     </a:t>
            </a: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Recruitment effort for the department and the school</a:t>
            </a: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at large.</a:t>
            </a:r>
            <a:endParaRPr b="0" lang="en-US" sz="1600" spc="-1" strike="noStrike">
              <a:solidFill>
                <a:srgbClr val="333333"/>
              </a:solidFill>
              <a:latin typeface="Century Gothic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    </a:t>
            </a: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7/        Marketing effort.</a:t>
            </a:r>
            <a:endParaRPr b="0" lang="en-US" sz="1600" spc="-1" strike="noStrike">
              <a:solidFill>
                <a:srgbClr val="333333"/>
              </a:solidFill>
              <a:latin typeface="Century Gothic"/>
            </a:endParaRPr>
          </a:p>
          <a:p>
            <a:pPr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Why is the OPI important for language institutions?   2/2 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78" name="Slide Number Placeholder 1"/>
          <p:cNvSpPr/>
          <p:nvPr/>
        </p:nvSpPr>
        <p:spPr>
          <a:xfrm>
            <a:off x="8256600" y="360360"/>
            <a:ext cx="50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9884-33FE-4F5F-9515-DC8A28AEEC28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Use of the OPI in the Business World &amp; the Administration.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e OPI and OPI ratings are widely used in the business world and in government for purposes of hiring and promotion in multi-lingual positions.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81" name="Slide Number Placeholder 1"/>
          <p:cNvSpPr/>
          <p:nvPr/>
        </p:nvSpPr>
        <p:spPr>
          <a:xfrm>
            <a:off x="8256600" y="360360"/>
            <a:ext cx="50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F25A-1ADB-40E0-B709-0051BC4C1273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Why is the OPI important for the student?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Evaluation of progress in the Common Core : OPIs can serve as Artifacts for students’portfolios to document their progress.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tudents may not know that some companies or governmental offices will require them to test at a certain level in the OPI once they are on the job market, to get to certain jobs.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Most highly selective Graduate Schools in Foreign Languages require the student to take the OPI.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84" name="Slide Number Placeholder 1"/>
          <p:cNvSpPr/>
          <p:nvPr/>
        </p:nvSpPr>
        <p:spPr>
          <a:xfrm>
            <a:off x="8256600" y="360360"/>
            <a:ext cx="50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39DE-E83C-4D4A-A865-EA2C3DF570E4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204"/>
          <p:cNvSpPr/>
          <p:nvPr/>
        </p:nvSpPr>
        <p:spPr>
          <a:xfrm>
            <a:off x="-1568520" y="-214200"/>
            <a:ext cx="830592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Oral Proficiency Levels in the Work World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6" name="Footer Placeholder 1"/>
          <p:cNvSpPr/>
          <p:nvPr/>
        </p:nvSpPr>
        <p:spPr>
          <a:xfrm>
            <a:off x="2855880" y="10466280"/>
            <a:ext cx="548640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iew the ACTFL Proficiency Guidelines 2012 at </a:t>
            </a:r>
            <a:r>
              <a:rPr b="1" lang="en-US" sz="900" spc="-1" strike="noStrike" u="sng">
                <a:solidFill>
                  <a:srgbClr val="0000ff"/>
                </a:solidFill>
                <a:uFillTx/>
                <a:latin typeface="Arial"/>
              </a:rPr>
              <a:t>http://actflproficiencyguidelines2012.org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87" name="Group 203" descr=""/>
          <p:cNvPicPr/>
          <p:nvPr/>
        </p:nvPicPr>
        <p:blipFill>
          <a:blip r:embed="rId1"/>
          <a:stretch/>
        </p:blipFill>
        <p:spPr>
          <a:xfrm>
            <a:off x="60480" y="487440"/>
            <a:ext cx="9010440" cy="9607320"/>
          </a:xfrm>
          <a:prstGeom prst="rect">
            <a:avLst/>
          </a:prstGeom>
          <a:ln w="0">
            <a:noFill/>
          </a:ln>
        </p:spPr>
      </p:pic>
      <p:sp>
        <p:nvSpPr>
          <p:cNvPr id="888" name="Rectangle 2"/>
          <p:cNvSpPr/>
          <p:nvPr/>
        </p:nvSpPr>
        <p:spPr>
          <a:xfrm>
            <a:off x="5273280" y="-44280"/>
            <a:ext cx="366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0" lang="en-US" sz="1800" spc="-1" strike="noStrike">
                <a:solidFill>
                  <a:srgbClr val="ff7070"/>
                </a:solidFill>
                <a:latin typeface="Century Gothic"/>
              </a:rPr>
              <a:t>document #3, p. 12 </a:t>
            </a:r>
            <a:r>
              <a:rPr b="0" lang="en-US" sz="900" spc="-1" strike="noStrike">
                <a:solidFill>
                  <a:srgbClr val="ff7070"/>
                </a:solidFill>
                <a:latin typeface="Century Gothic"/>
              </a:rPr>
              <a:t>informational handout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9" name="Slide Number Placeholder 3"/>
          <p:cNvSpPr/>
          <p:nvPr/>
        </p:nvSpPr>
        <p:spPr>
          <a:xfrm>
            <a:off x="8256600" y="635652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AEF2-0484-4B21-ADAD-7D4DE87FE2C4}" type="slidenum">
              <a:rPr b="1" lang="en-US" sz="1100" spc="-1" strike="noStrike">
                <a:solidFill>
                  <a:srgbClr val="858585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How long does it take to become proficient?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e following ACTFL Oral Proficiency Interview (OPI) Ratings represent levels of expected performance for language learners who complete full-time intensive and/or immersion, proficiency-based language training under the supervision of an instructor and with 1-4 students per class.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entury Gothic"/>
              </a:rPr>
              <a:t>Source: http://www.languagetesting.com/how-long-does-it-take</a:t>
            </a:r>
            <a:endParaRPr b="0" lang="en-US" sz="12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92" name="Slide Number Placeholder 1"/>
          <p:cNvSpPr/>
          <p:nvPr/>
        </p:nvSpPr>
        <p:spPr>
          <a:xfrm>
            <a:off x="8256600" y="360360"/>
            <a:ext cx="50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D64A-3F23-4E06-B266-AAAA34B5ECE6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456840" y="2209320"/>
            <a:ext cx="847404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Group I Languages: 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Including </a:t>
            </a:r>
            <a:r>
              <a:rPr b="0" i="1" lang="en-US" sz="2000" spc="-1" strike="noStrike">
                <a:solidFill>
                  <a:srgbClr val="333333"/>
                </a:solidFill>
                <a:latin typeface="Century Gothic"/>
              </a:rPr>
              <a:t>Afrikaans, Danish, Dutch, French, Haitian Creole, Italian, Norwegian, Portuguese, Romanian, Spanish, Swahili, Swedish…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1400" indent="-2214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Century Gothic"/>
              </a:rPr>
              <a:t>Length of Training</a:t>
            </a: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       </a:t>
            </a:r>
            <a:r>
              <a:rPr b="1" lang="en-US" sz="1600" spc="-1" strike="noStrike">
                <a:solidFill>
                  <a:srgbClr val="333333"/>
                </a:solidFill>
                <a:latin typeface="Century Gothic"/>
              </a:rPr>
              <a:t>Minimal Aptitude</a:t>
            </a: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     </a:t>
            </a:r>
            <a:r>
              <a:rPr b="1" lang="en-US" sz="1600" spc="-1" strike="noStrike">
                <a:solidFill>
                  <a:srgbClr val="333333"/>
                </a:solidFill>
                <a:latin typeface="Century Gothic"/>
              </a:rPr>
              <a:t>Average Aptitude</a:t>
            </a: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	</a:t>
            </a:r>
            <a:r>
              <a:rPr b="1" lang="en-US" sz="1600" spc="-1" strike="noStrike">
                <a:solidFill>
                  <a:srgbClr val="333333"/>
                </a:solidFill>
                <a:latin typeface="Century Gothic"/>
              </a:rPr>
              <a:t>Superior Aptitude</a:t>
            </a: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	</a:t>
            </a:r>
            <a:endParaRPr b="0" lang="en-US" sz="1600" spc="-1" strike="noStrike">
              <a:solidFill>
                <a:srgbClr val="333333"/>
              </a:solidFill>
              <a:latin typeface="Century Gothic"/>
            </a:endParaRPr>
          </a:p>
          <a:p>
            <a:pPr marL="221400" indent="-2214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8 weeks (240 hours)    Intermediate Low     Intermediate Mid</a:t>
            </a: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Intermediate Mid</a:t>
            </a: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	</a:t>
            </a:r>
            <a:endParaRPr b="0" lang="en-US" sz="1600" spc="-1" strike="noStrike">
              <a:solidFill>
                <a:srgbClr val="333333"/>
              </a:solidFill>
              <a:latin typeface="Century Gothic"/>
            </a:endParaRPr>
          </a:p>
          <a:p>
            <a:pPr marL="221400" indent="-2214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16 weeks (480 hours)   Intermediate High     Advanced Low</a:t>
            </a: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Advanced Mid</a:t>
            </a: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	</a:t>
            </a:r>
            <a:endParaRPr b="0" lang="en-US" sz="1600" spc="-1" strike="noStrike">
              <a:solidFill>
                <a:srgbClr val="333333"/>
              </a:solidFill>
              <a:latin typeface="Century Gothic"/>
            </a:endParaRPr>
          </a:p>
          <a:p>
            <a:pPr marL="221400" indent="-2214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24 weeks (720 hours)   Advanced Mid           Advanced High</a:t>
            </a: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Century Gothic"/>
              </a:rPr>
              <a:t> Superior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1400" indent="-2214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entury Gothic"/>
              </a:rPr>
              <a:t>Source: http://www.languagetesting.com/how-long-does-it-take</a:t>
            </a:r>
            <a:endParaRPr b="0" lang="en-US" sz="1200" spc="-1" strike="noStrike">
              <a:solidFill>
                <a:srgbClr val="333333"/>
              </a:solidFill>
              <a:latin typeface="Century Gothic"/>
            </a:endParaRPr>
          </a:p>
          <a:p>
            <a:pPr marL="221400" indent="-2214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95" name="Slide Number Placeholder 1"/>
          <p:cNvSpPr/>
          <p:nvPr/>
        </p:nvSpPr>
        <p:spPr>
          <a:xfrm>
            <a:off x="8256600" y="360360"/>
            <a:ext cx="50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13C2-DA65-49E2-90A3-0A3C518170DB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0" y="2209320"/>
            <a:ext cx="1028232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Century Gothic"/>
              </a:rPr>
              <a:t>Group IV Languages: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 Including </a:t>
            </a:r>
            <a:r>
              <a:rPr b="0" i="1" lang="en-US" sz="2000" spc="-1" strike="noStrike">
                <a:solidFill>
                  <a:srgbClr val="333333"/>
                </a:solidFill>
                <a:latin typeface="Century Gothic"/>
              </a:rPr>
              <a:t>Arabic, Chinese, Japanese, Korean…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33"/>
                </a:solidFill>
                <a:latin typeface="Century Gothic"/>
              </a:rPr>
              <a:t>Length of Training</a:t>
            </a: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       </a:t>
            </a:r>
            <a:r>
              <a:rPr b="1" lang="en-US" sz="1700" spc="-1" strike="noStrike">
                <a:solidFill>
                  <a:srgbClr val="333333"/>
                </a:solidFill>
                <a:latin typeface="Century Gothic"/>
              </a:rPr>
              <a:t>Minimal Aptitude</a:t>
            </a: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   </a:t>
            </a:r>
            <a:r>
              <a:rPr b="1" lang="en-US" sz="1700" spc="-1" strike="noStrike">
                <a:solidFill>
                  <a:srgbClr val="333333"/>
                </a:solidFill>
                <a:latin typeface="Century Gothic"/>
              </a:rPr>
              <a:t>Average Aptitude</a:t>
            </a: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     </a:t>
            </a:r>
            <a:r>
              <a:rPr b="1" lang="en-US" sz="1700" spc="-1" strike="noStrike">
                <a:solidFill>
                  <a:srgbClr val="333333"/>
                </a:solidFill>
                <a:latin typeface="Century Gothic"/>
              </a:rPr>
              <a:t>Superior Aptitude</a:t>
            </a: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	</a:t>
            </a:r>
            <a:endParaRPr b="0" lang="en-US" sz="17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16 weeks (480 hours)     Novice High         Intermediate Low     Intermediate Low/Mid</a:t>
            </a: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	</a:t>
            </a:r>
            <a:endParaRPr b="0" lang="en-US" sz="17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24 weeks (720 hours)   Intermediate L/M   Intermediate M/H      Intermediate High</a:t>
            </a: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	</a:t>
            </a:r>
            <a:endParaRPr b="0" lang="en-US" sz="17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44 weeks(1320 hours)  Intermediate High</a:t>
            </a: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	</a:t>
            </a: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Advanced Low</a:t>
            </a: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	</a:t>
            </a: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    Advanced Mid/High</a:t>
            </a: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	</a:t>
            </a:r>
            <a:endParaRPr b="0" lang="en-US" sz="17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80-92 weeks (2400-2760 h)Advanced H          Superior</a:t>
            </a: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	</a:t>
            </a: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           Superior</a:t>
            </a: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	</a:t>
            </a:r>
            <a:endParaRPr b="0" lang="en-US" sz="17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Century Gothic"/>
              </a:rPr>
              <a:t>Source: http://www.languagetesting.com/how-long-does-it-take</a:t>
            </a:r>
            <a:endParaRPr b="0" lang="en-US" sz="12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98" name="Slide Number Placeholder 1"/>
          <p:cNvSpPr/>
          <p:nvPr/>
        </p:nvSpPr>
        <p:spPr>
          <a:xfrm>
            <a:off x="8256600" y="360360"/>
            <a:ext cx="50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738D-0094-4F75-A082-998BBCBC7DBA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What is the format of an interview?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457200" y="2209320"/>
            <a:ext cx="68119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An oral test, by phone, 20-30minutes where you assess the proficiency of a student.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Establishing a floor and a ceiling.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Get a ratable sample.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Double rating by another ACTFL certified tester.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Samples at all the levels of proficiency, in English: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  </a:t>
            </a:r>
            <a:r>
              <a:rPr b="0" lang="en-US" sz="1300" spc="-1" strike="noStrike">
                <a:solidFill>
                  <a:srgbClr val="333333"/>
                </a:solidFill>
                <a:latin typeface="Century Gothic"/>
              </a:rPr>
              <a:t> </a:t>
            </a:r>
            <a:r>
              <a:rPr b="0" lang="en-US" sz="1300" spc="-1" strike="noStrike">
                <a:solidFill>
                  <a:srgbClr val="333333"/>
                </a:solidFill>
                <a:latin typeface="Century Gothic"/>
              </a:rPr>
              <a:t>&lt;http://actflproficiencyguidelines2012.org/speaking#Novice&gt;</a:t>
            </a:r>
            <a:endParaRPr b="0" lang="en-US" sz="13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01" name="Slide Number Placeholder 1"/>
          <p:cNvSpPr/>
          <p:nvPr/>
        </p:nvSpPr>
        <p:spPr>
          <a:xfrm>
            <a:off x="8256600" y="360360"/>
            <a:ext cx="50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0247-055D-44B8-A03B-1D82D9DFAE73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How to become an OPI Certified Tester?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ACTFL convention </a:t>
            </a:r>
            <a:r>
              <a:rPr b="0" lang="en-US" sz="2000" spc="-1" strike="noStrike">
                <a:solidFill>
                  <a:srgbClr val="333333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 4-day training workshop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28 hours of professional development (phase 1)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Rating phase (phase 2)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Interview phase (phase 3)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ake the OPI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You test not only in your class or Department, but nationally and get paid for it!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04" name="Slide Number Placeholder 1"/>
          <p:cNvSpPr/>
          <p:nvPr/>
        </p:nvSpPr>
        <p:spPr>
          <a:xfrm>
            <a:off x="8256600" y="360360"/>
            <a:ext cx="50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46BF-6C8B-4555-943D-3438C8B4D8B2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Any Questions?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Bibliography: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Century Gothic"/>
              </a:rPr>
              <a:t>ACTFL OPI Tester Certification Information © 2012 ACTFL, Inc.</a:t>
            </a:r>
            <a:endParaRPr b="0" lang="en-US" sz="14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Century Gothic"/>
              </a:rPr>
              <a:t>ACTFL Proficiency Guidelines 2012:</a:t>
            </a:r>
            <a:endParaRPr b="0" lang="en-US" sz="14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Century Gothic"/>
              </a:rPr>
              <a:t>&lt;http://actflproficiencyguidelines2012.org&gt;</a:t>
            </a:r>
            <a:endParaRPr b="0" lang="en-US" sz="14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Century Gothic"/>
              </a:rPr>
              <a:t>ACTFL Language Proficiency Tester Training Site: “About the ACTFL Proficiency Interview (OPI)” © 2012 ACTFL, Inc.</a:t>
            </a:r>
            <a:endParaRPr b="0" lang="en-US" sz="14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Century Gothic"/>
              </a:rPr>
              <a:t>OPI Tester Certification Packet (Assessment) © 2012 ACTFL, Inc.</a:t>
            </a:r>
            <a:endParaRPr b="0" lang="en-US" sz="14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Century Gothic"/>
              </a:rPr>
              <a:t>LTI: &lt;http://www.languagetesting.com/oral-proficiency-interview-opi&gt;</a:t>
            </a:r>
            <a:endParaRPr b="0" lang="en-US" sz="14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907" name="TextBox 1"/>
          <p:cNvSpPr/>
          <p:nvPr/>
        </p:nvSpPr>
        <p:spPr>
          <a:xfrm>
            <a:off x="3835440" y="5626080"/>
            <a:ext cx="530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Questions? Please email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lebret5@naz.edu or call: (650) 644-8600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8" name="Slide Number Placeholder 1"/>
          <p:cNvSpPr/>
          <p:nvPr/>
        </p:nvSpPr>
        <p:spPr>
          <a:xfrm>
            <a:off x="8256600" y="360360"/>
            <a:ext cx="50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377F-4957-4865-8C30-84F2327D71BD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Objectives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Introduce the Oral Proficiency Interview (OPI)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Highlight the importance of the use of OPI testing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601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For our Departments and Institutions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601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For our pupils and students, and in the work world</a:t>
            </a:r>
            <a:r>
              <a:rPr b="0" lang="en-US" sz="1800" spc="-1" strike="noStrike">
                <a:solidFill>
                  <a:srgbClr val="333333"/>
                </a:solidFill>
                <a:latin typeface="Century Gothic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53" name="Slide Number Placeholder 1"/>
          <p:cNvSpPr/>
          <p:nvPr/>
        </p:nvSpPr>
        <p:spPr>
          <a:xfrm>
            <a:off x="8256600" y="360360"/>
            <a:ext cx="50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A559-B8B8-49A7-8468-B742741C95F8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Outline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457200" y="1346040"/>
            <a:ext cx="650880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33"/>
                </a:solidFill>
                <a:latin typeface="Century Gothic"/>
              </a:rPr>
              <a:t>What is the OPI?</a:t>
            </a:r>
            <a:endParaRPr b="0" lang="en-US" sz="19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33"/>
                </a:solidFill>
                <a:latin typeface="Century Gothic"/>
              </a:rPr>
              <a:t>Assessment types: achievement vs proficiency tests</a:t>
            </a:r>
            <a:endParaRPr b="0" lang="en-US" sz="19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33"/>
                </a:solidFill>
                <a:latin typeface="Century Gothic"/>
              </a:rPr>
              <a:t>Details of testing for proficiency along the ACTFL guidelines &amp; the rating scale</a:t>
            </a:r>
            <a:endParaRPr b="0" lang="en-US" sz="19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33"/>
                </a:solidFill>
                <a:latin typeface="Century Gothic"/>
              </a:rPr>
              <a:t>The use of the ACTFL OPI for our Institution, for our students: OPI Use in Academia, the business world and in government communities</a:t>
            </a:r>
            <a:endParaRPr b="0" lang="en-US" sz="19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33"/>
                </a:solidFill>
                <a:latin typeface="Century Gothic"/>
              </a:rPr>
              <a:t>Data: Oral Proficiency levels in the work world and length to become proficient in a FL language</a:t>
            </a:r>
            <a:endParaRPr b="0" lang="en-US" sz="19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33"/>
                </a:solidFill>
                <a:latin typeface="Century Gothic"/>
              </a:rPr>
              <a:t>The format of interview itself and how to become a certified tester?</a:t>
            </a:r>
            <a:endParaRPr b="0" lang="en-US" sz="19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56" name="Slide Number Placeholder 1"/>
          <p:cNvSpPr/>
          <p:nvPr/>
        </p:nvSpPr>
        <p:spPr>
          <a:xfrm>
            <a:off x="8256600" y="360360"/>
            <a:ext cx="50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E944-11B9-41E5-8013-BBF064DC3206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What is the OPI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457200" y="2209680"/>
            <a:ext cx="65088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The OPI </a:t>
            </a:r>
            <a:r>
              <a:rPr b="0" i="1" lang="en-US" sz="1700" spc="-1" strike="noStrike">
                <a:solidFill>
                  <a:srgbClr val="333333"/>
                </a:solidFill>
                <a:latin typeface="Century Gothic"/>
              </a:rPr>
              <a:t>standardized</a:t>
            </a: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 </a:t>
            </a:r>
            <a:r>
              <a:rPr b="1" lang="en-US" sz="1700" spc="-1" strike="noStrike">
                <a:solidFill>
                  <a:srgbClr val="333333"/>
                </a:solidFill>
                <a:latin typeface="Century Gothic"/>
              </a:rPr>
              <a:t>oral proficiency test</a:t>
            </a: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 follows the national guidelines and Scale defined by the ACTFL.</a:t>
            </a:r>
            <a:endParaRPr b="0" lang="en-US" sz="1700" spc="-1" strike="noStrike">
              <a:solidFill>
                <a:srgbClr val="333333"/>
              </a:solidFill>
              <a:latin typeface="Century Gothic"/>
            </a:endParaRPr>
          </a:p>
          <a:p>
            <a:pPr lvl="3" marL="228600" indent="-22860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What is language proficiency? </a:t>
            </a:r>
            <a:endParaRPr b="0" lang="en-US" sz="17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333333"/>
                </a:solidFill>
                <a:latin typeface="Century Gothic"/>
              </a:rPr>
              <a:t>Language proficiency</a:t>
            </a: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 refers to one’s ability to use language for real world purposes to accomplish real world linguistic tasks, across a wide range of </a:t>
            </a:r>
            <a:r>
              <a:rPr b="1" lang="en-US" sz="1700" spc="-1" strike="noStrike">
                <a:solidFill>
                  <a:srgbClr val="333333"/>
                </a:solidFill>
                <a:latin typeface="Century Gothic"/>
              </a:rPr>
              <a:t>topics</a:t>
            </a: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 and </a:t>
            </a:r>
            <a:r>
              <a:rPr b="1" lang="en-US" sz="1700" spc="-1" strike="noStrike">
                <a:solidFill>
                  <a:srgbClr val="333333"/>
                </a:solidFill>
                <a:latin typeface="Century Gothic"/>
              </a:rPr>
              <a:t>settings</a:t>
            </a: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. ACTFL Proficiency Tests reflect and measure these real world tasks.</a:t>
            </a:r>
            <a:endParaRPr b="0" lang="en-US" sz="17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What does the OPI test?</a:t>
            </a:r>
            <a:endParaRPr b="0" lang="en-US" sz="17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Testing what an individual </a:t>
            </a:r>
            <a:r>
              <a:rPr b="1" lang="en-US" sz="1700" spc="-1" strike="noStrike">
                <a:solidFill>
                  <a:srgbClr val="333333"/>
                </a:solidFill>
                <a:latin typeface="Century Gothic"/>
              </a:rPr>
              <a:t>can do</a:t>
            </a: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 with what one knows.</a:t>
            </a:r>
            <a:endParaRPr b="0" lang="en-US" sz="1700" spc="-1" strike="noStrike">
              <a:solidFill>
                <a:srgbClr val="333333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33"/>
                </a:solidFill>
                <a:latin typeface="Century Gothic"/>
              </a:rPr>
              <a:t>Testing the unrehearsed speakers’ demonstrated ability to use language to accomplish real life tasks. </a:t>
            </a:r>
            <a:endParaRPr b="0" lang="en-US" sz="17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59" name="Slide Number Placeholder 1"/>
          <p:cNvSpPr/>
          <p:nvPr/>
        </p:nvSpPr>
        <p:spPr>
          <a:xfrm>
            <a:off x="8256600" y="360360"/>
            <a:ext cx="50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64AD-EAA0-40C6-B3EF-440E92689A46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 </a:t>
            </a: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Assessments types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pic>
        <p:nvPicPr>
          <p:cNvPr id="861" name="Content Placeholder 2" descr=""/>
          <p:cNvPicPr/>
          <p:nvPr/>
        </p:nvPicPr>
        <p:blipFill>
          <a:blip r:embed="rId1"/>
          <a:stretch/>
        </p:blipFill>
        <p:spPr>
          <a:xfrm>
            <a:off x="407880" y="2176560"/>
            <a:ext cx="6566040" cy="3956040"/>
          </a:xfrm>
          <a:prstGeom prst="rect">
            <a:avLst/>
          </a:prstGeom>
          <a:ln w="0">
            <a:noFill/>
          </a:ln>
        </p:spPr>
      </p:pic>
      <p:sp>
        <p:nvSpPr>
          <p:cNvPr id="862" name="Slide Number Placeholder 1"/>
          <p:cNvSpPr/>
          <p:nvPr/>
        </p:nvSpPr>
        <p:spPr>
          <a:xfrm>
            <a:off x="8256600" y="360360"/>
            <a:ext cx="50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3D80-8B93-4E35-B67D-875A900974EF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entury Gothic"/>
              </a:rPr>
              <a:t>Testing for proficiency along the ACTFL Proficiency Guidelines</a:t>
            </a:r>
            <a:endParaRPr b="0" lang="en-US" sz="32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457200" y="2209320"/>
            <a:ext cx="6508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e ACTFL proficiency guidelines allow to compare a person’s unrehearsed ability against a set of language descriptors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 lvl="2" marL="685800" indent="-228600">
              <a:spcBef>
                <a:spcPts val="601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7070"/>
                </a:solidFill>
                <a:latin typeface="Century Gothic"/>
              </a:rPr>
              <a:t>Please see document #1, p. 2 of informational handout</a:t>
            </a:r>
            <a:endParaRPr b="0" lang="en-US" sz="1800" spc="-1" strike="noStrike">
              <a:solidFill>
                <a:srgbClr val="333333"/>
              </a:solidFill>
              <a:latin typeface="Century Gothic"/>
            </a:endParaRPr>
          </a:p>
          <a:p>
            <a:pPr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Description of proficiency along a continuum from the very top (full professional proficiency) of a scale to the very bottom (little or no functional ability).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65" name="Slide Number Placeholder 1"/>
          <p:cNvSpPr/>
          <p:nvPr/>
        </p:nvSpPr>
        <p:spPr>
          <a:xfrm>
            <a:off x="8256600" y="360360"/>
            <a:ext cx="50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638D-49CA-4720-A373-C23908B1FDE4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6730920" cy="6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The ACTFL Rating Scale 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pic>
        <p:nvPicPr>
          <p:cNvPr id="867" name="Content Placeholder 5" descr=""/>
          <p:cNvPicPr/>
          <p:nvPr/>
        </p:nvPicPr>
        <p:blipFill>
          <a:blip r:embed="rId1"/>
          <a:srcRect l="0" t="3398" r="0" b="3398"/>
          <a:stretch/>
        </p:blipFill>
        <p:spPr>
          <a:xfrm>
            <a:off x="361800" y="1581120"/>
            <a:ext cx="8321760" cy="5006880"/>
          </a:xfrm>
          <a:prstGeom prst="rect">
            <a:avLst/>
          </a:prstGeom>
          <a:ln w="0">
            <a:noFill/>
          </a:ln>
        </p:spPr>
      </p:pic>
      <p:sp>
        <p:nvSpPr>
          <p:cNvPr id="868" name="Content Placeholder 2"/>
          <p:cNvSpPr/>
          <p:nvPr/>
        </p:nvSpPr>
        <p:spPr>
          <a:xfrm>
            <a:off x="361800" y="1581120"/>
            <a:ext cx="6508800" cy="39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9" name="Slide Number Placeholder 1"/>
          <p:cNvSpPr/>
          <p:nvPr/>
        </p:nvSpPr>
        <p:spPr>
          <a:xfrm>
            <a:off x="8256600" y="360360"/>
            <a:ext cx="50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701B-6A96-4A15-BF9C-27136584F25D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Uses of the ACTFL OPI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457200" y="1485720"/>
            <a:ext cx="6508800" cy="46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  <a:p>
            <a:pPr>
              <a:spcBef>
                <a:spcPts val="1800"/>
              </a:spcBef>
              <a:buClr>
                <a:srgbClr val="99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entury Gothic"/>
              </a:rPr>
              <a:t>The ACTFL OPI is currently being used for a variety of purposes in Academia, the business world and in government. </a:t>
            </a:r>
            <a:endParaRPr b="0" lang="en-US" sz="20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72" name="Slide Number Placeholder 1"/>
          <p:cNvSpPr/>
          <p:nvPr/>
        </p:nvSpPr>
        <p:spPr>
          <a:xfrm>
            <a:off x="8256600" y="360360"/>
            <a:ext cx="50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EDD5-2BE9-474F-8F34-A69B3A2ABC3B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6508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entury Gothic"/>
              </a:rPr>
              <a:t>Why is the OPI important for  language institutions?   1/2 </a:t>
            </a:r>
            <a:endParaRPr b="0" lang="en-US" sz="36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456840" y="1485720"/>
            <a:ext cx="7015320" cy="51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1/ Articulation among language programs:</a:t>
            </a: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	</a:t>
            </a:r>
            <a:endParaRPr b="0" lang="en-US" sz="1500" spc="-1" strike="noStrike">
              <a:solidFill>
                <a:srgbClr val="333333"/>
              </a:solidFill>
              <a:latin typeface="Century Gothic"/>
            </a:endParaRPr>
          </a:p>
          <a:p>
            <a:pPr lvl="1" marL="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	</a:t>
            </a:r>
            <a:r>
              <a:rPr b="0" lang="en-US" sz="1500" spc="-1" strike="noStrike">
                <a:solidFill>
                  <a:srgbClr val="333333"/>
                </a:solidFill>
                <a:latin typeface="Wingdings"/>
                <a:ea typeface="Wingdings"/>
              </a:rPr>
              <a:t></a:t>
            </a: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 </a:t>
            </a: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Admission into programs</a:t>
            </a:r>
            <a:endParaRPr b="0" lang="en-US" sz="15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 </a:t>
            </a: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Placement within a language sequence</a:t>
            </a:r>
            <a:endParaRPr b="0" lang="en-US" sz="15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 </a:t>
            </a: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Determination of the fulfillment of exit</a:t>
            </a:r>
            <a:endParaRPr b="0" lang="en-US" sz="15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Wingdings"/>
                <a:ea typeface="Wingdings"/>
              </a:rPr>
              <a:t></a:t>
            </a: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 </a:t>
            </a: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Graduation requirements </a:t>
            </a:r>
            <a:endParaRPr b="0" lang="en-US" sz="15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33333"/>
              </a:solidFill>
              <a:latin typeface="Century Gothic"/>
            </a:endParaRPr>
          </a:p>
          <a:p>
            <a:pPr lvl="1" marL="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2/ Departmental long range curriculum planning:</a:t>
            </a:r>
            <a:endParaRPr b="0" lang="en-US" sz="1500" spc="-1" strike="noStrike">
              <a:solidFill>
                <a:srgbClr val="333333"/>
              </a:solidFill>
              <a:latin typeface="Century Gothic"/>
            </a:endParaRPr>
          </a:p>
          <a:p>
            <a:pPr lvl="1" marL="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	</a:t>
            </a: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Establishing </a:t>
            </a:r>
            <a:r>
              <a:rPr b="1" lang="en-US" sz="1500" spc="-1" strike="noStrike">
                <a:solidFill>
                  <a:srgbClr val="333333"/>
                </a:solidFill>
                <a:latin typeface="Century Gothic"/>
              </a:rPr>
              <a:t>proficiency outcomes </a:t>
            </a: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provides a framework for </a:t>
            </a: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	</a:t>
            </a: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design and development of curriculum for language </a:t>
            </a: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	</a:t>
            </a: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courses and sequences of language courses.</a:t>
            </a:r>
            <a:endParaRPr b="0" lang="en-US" sz="1500" spc="-1" strike="noStrike">
              <a:solidFill>
                <a:srgbClr val="333333"/>
              </a:solidFill>
              <a:latin typeface="Century Gothic"/>
            </a:endParaRPr>
          </a:p>
          <a:p>
            <a:pPr lvl="1" marL="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	</a:t>
            </a: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 </a:t>
            </a:r>
            <a:r>
              <a:rPr b="0" lang="en-US" sz="1500" spc="-1" strike="noStrike">
                <a:solidFill>
                  <a:srgbClr val="333333"/>
                </a:solidFill>
                <a:latin typeface="Wingdings"/>
                <a:ea typeface="Wingdings"/>
              </a:rPr>
              <a:t></a:t>
            </a: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 </a:t>
            </a: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Establishing a common OPI level to be reached for </a:t>
            </a:r>
            <a:endParaRPr b="0" lang="en-US" sz="1500" spc="-1" strike="noStrike">
              <a:solidFill>
                <a:srgbClr val="333333"/>
              </a:solidFill>
              <a:latin typeface="Century Gothic"/>
            </a:endParaRPr>
          </a:p>
          <a:p>
            <a:pPr lvl="1" marL="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                  </a:t>
            </a: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all programs in a given department </a:t>
            </a:r>
            <a:endParaRPr b="0" lang="en-US" sz="1500" spc="-1" strike="noStrike">
              <a:solidFill>
                <a:srgbClr val="333333"/>
              </a:solidFill>
              <a:latin typeface="Century Gothic"/>
            </a:endParaRPr>
          </a:p>
          <a:p>
            <a:pPr lvl="1" marL="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             </a:t>
            </a:r>
            <a:r>
              <a:rPr b="0" lang="en-US" sz="1500" spc="-1" strike="noStrike">
                <a:solidFill>
                  <a:srgbClr val="333333"/>
                </a:solidFill>
                <a:latin typeface="Wingdings"/>
                <a:ea typeface="Wingdings"/>
              </a:rPr>
              <a:t></a:t>
            </a: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 </a:t>
            </a: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Choice of textbooks (</a:t>
            </a:r>
            <a:r>
              <a:rPr b="0" lang="en-US" sz="1500" spc="-1" strike="noStrike">
                <a:solidFill>
                  <a:srgbClr val="ff7070"/>
                </a:solidFill>
                <a:latin typeface="Century Gothic"/>
              </a:rPr>
              <a:t>document #2, pp. 4-11 in the </a:t>
            </a:r>
            <a:endParaRPr b="0" lang="en-US" sz="1500" spc="-1" strike="noStrike">
              <a:solidFill>
                <a:srgbClr val="333333"/>
              </a:solidFill>
              <a:latin typeface="Century Gothic"/>
            </a:endParaRPr>
          </a:p>
          <a:p>
            <a:pPr lvl="1" marL="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7070"/>
                </a:solidFill>
                <a:latin typeface="Century Gothic"/>
              </a:rPr>
              <a:t>                  </a:t>
            </a:r>
            <a:r>
              <a:rPr b="0" lang="en-US" sz="1500" spc="-1" strike="noStrike">
                <a:solidFill>
                  <a:srgbClr val="ff7070"/>
                </a:solidFill>
                <a:latin typeface="Century Gothic"/>
              </a:rPr>
              <a:t>informational handout</a:t>
            </a: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)!</a:t>
            </a:r>
            <a:endParaRPr b="0" lang="en-US" sz="1500" spc="-1" strike="noStrike">
              <a:solidFill>
                <a:srgbClr val="333333"/>
              </a:solidFill>
              <a:latin typeface="Century Gothic"/>
            </a:endParaRPr>
          </a:p>
          <a:p>
            <a:pPr lvl="1" marL="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33333"/>
              </a:solidFill>
              <a:latin typeface="Century Gothic"/>
            </a:endParaRPr>
          </a:p>
          <a:p>
            <a:pPr lvl="1" marL="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3/ Evaluating the effectiveness of language programs.</a:t>
            </a:r>
            <a:endParaRPr b="0" lang="en-US" sz="1500" spc="-1" strike="noStrike">
              <a:solidFill>
                <a:srgbClr val="333333"/>
              </a:solidFill>
              <a:latin typeface="Century Gothic"/>
            </a:endParaRPr>
          </a:p>
          <a:p>
            <a:pPr lvl="1" marL="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33333"/>
              </a:solidFill>
              <a:latin typeface="Century Gothic"/>
            </a:endParaRPr>
          </a:p>
          <a:p>
            <a:pPr lvl="1" marL="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33"/>
                </a:solidFill>
                <a:latin typeface="Century Gothic"/>
              </a:rPr>
              <a:t>4/ Teacher Certification Boards and Teacher Certification.</a:t>
            </a:r>
            <a:endParaRPr b="0" lang="en-US" sz="1500" spc="-1" strike="noStrike">
              <a:solidFill>
                <a:srgbClr val="333333"/>
              </a:solidFill>
              <a:latin typeface="Century Gothic"/>
            </a:endParaRPr>
          </a:p>
          <a:p>
            <a:pPr lvl="1" marL="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33333"/>
              </a:solidFill>
              <a:latin typeface="Century Gothic"/>
            </a:endParaRPr>
          </a:p>
          <a:p>
            <a:pPr lvl="1" marL="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33333"/>
              </a:solidFill>
              <a:latin typeface="Century Gothic"/>
            </a:endParaRPr>
          </a:p>
          <a:p>
            <a:pPr lvl="4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33333"/>
              </a:solidFill>
              <a:latin typeface="Century Gothic"/>
            </a:endParaRPr>
          </a:p>
        </p:txBody>
      </p:sp>
      <p:sp>
        <p:nvSpPr>
          <p:cNvPr id="875" name="Slide Number Placeholder 1"/>
          <p:cNvSpPr/>
          <p:nvPr/>
        </p:nvSpPr>
        <p:spPr>
          <a:xfrm>
            <a:off x="8256600" y="360360"/>
            <a:ext cx="506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A268-871A-4D30-A3FE-1CA2533F7649}" type="slidenum">
              <a:rPr b="1" lang="en-US" sz="2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3T01:07:36Z</dcterms:created>
  <dc:creator>Tom </dc:creator>
  <dc:description/>
  <dc:language>en-US</dc:language>
  <cp:lastModifiedBy>Nazareth</cp:lastModifiedBy>
  <cp:lastPrinted>2013-05-03T06:30:03Z</cp:lastPrinted>
  <dcterms:modified xsi:type="dcterms:W3CDTF">2014-03-08T17:34:46Z</dcterms:modified>
  <cp:revision>193</cp:revision>
  <dc:subject/>
  <dc:title>Proficiency: one’s functional language ability</dc:title>
</cp:coreProperties>
</file>